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1B5-D4AD-42D2-BD5B-340ED67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F91-75A0-4647-A0A7-9E277A9D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F1B-CCF0-4BD1-A2D3-44668A6A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045-B6F5-41D3-AD1A-2FDBFDC0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FEE-6049-4C25-BD01-0E1C2CE2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95C-D515-49BE-9D7D-B93A650C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D09-6437-444A-B6DD-8481C624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632-3C48-4B78-9D5E-86E8A172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808-4718-4F5D-ABE5-FDCAA04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718-D855-4B71-B471-B47791E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14B-A553-4E07-A83A-1C6FCD5E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C90-201C-4E8D-9CB8-FA300C2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9669-07D4-45F3-82CF-EFCE78B28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2377800" cy="3181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429000" cy="1870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86400" y="685800"/>
            <a:ext cx="247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39:25Z</dcterms:created>
  <dc:creator>Patrick J. Mooney</dc:creator>
  <dc:description/>
  <dc:language>en-US</dc:language>
  <cp:lastModifiedBy>Patrick J. Mooney</cp:lastModifiedBy>
  <dcterms:modified xsi:type="dcterms:W3CDTF">2011-09-13T14:40:51Z</dcterms:modified>
  <cp:revision>1</cp:revision>
  <dc:subject/>
  <dc:title>Slide 1</dc:title>
</cp:coreProperties>
</file>